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07EA-7A50-417C-AA2D-2E18E0870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5DC8-16C6-42B5-B743-70F1E07F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46E4-97A1-468C-A9E8-B40233651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F621-762D-4713-857E-CB7DD29E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BDC8-7E0B-469D-821D-45CB9701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58DB-E205-4FEC-ACC2-7E20BD1C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4C93-ACE1-4BFC-9DBA-52BA8511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897B-F632-45EF-A988-E7789B68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96DE-5760-4AB1-830E-BF11928D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61C0-0D48-4F4E-A6F2-D1F21628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D893-8125-440D-AE79-92FA4678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BB3B-E48C-4963-B567-DF0F1B56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25B0-EF14-45AF-B9E3-08AE441DF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9180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 Мак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я задач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о  назначени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°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.</a:t>
            </a:r>
            <a:r>
              <a:rPr b="0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Задача о женихах и невест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усть имеется 5 женихов и 5 невест. Известна эффективность каждого жениха для каждой невесты. Требуется распреде-лить женихов по невестам, причём так, чтобы суммарная эффективность браков была наибольш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уществует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! вариантов решений за-дачи, что даже при малых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признаётся трудоёмки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6516720" y="260280"/>
            <a:ext cx="26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Лекция №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276A-E11E-4F70-9628-E10CEAD330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13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Если в каждой строке и каждом столбце в результате некоторых преобразований найдётся по одному подчёркнутому элементу (минималь-ному), то это оптимальное реш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08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Будем решать задачу по шагам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26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тогда они образуют оптимальный выбор или оптимальный набор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4D57-867F-4F8D-B766-A6A4E71783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160"/>
            <a:ext cx="914400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0" bIns="46800" anchor="ctr">
            <a:spAutoFit/>
          </a:bodyPr>
          <a:p>
            <a:pPr>
              <a:lnSpc>
                <a:spcPct val="10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Шаг0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Выберем в каждой строке мат-рицы минимальный элемент и подчерк-нем его. Разделим множество всех столб-цов матрицы на два подмножества А и А'. А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назовем «множеством выбранных столбцов», А'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«невыбранных». В самом начале итерации множество А всегда пус-тое, А' содержит в нашем случае все 5 столбцов: А'={1,2,3,4,5}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118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Шаг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ыберем из А' столбец, содержа-щий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наибольшее количество подчеркну-тых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элементов, и переведем его в А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233E-E547-4561-8385-868D5B18EE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7460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Шаг2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права от матрицы напротив строк выпишем все подчеркнутые элементы множества А, которое содержит в данном случае 1 столбец. Такой элемент может быть не у каждой строки. Слева от матрицы только для тех строк, в которых есть подчеркнутые элементы из А, запишем разности: минимальный элемент множества А' для строки минус подчеркнутый элемент из множества А той же строки. Затем найдем минимальное значение этих разностей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DA48-0CA9-44F6-9ECB-E3A2E19006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0" y="2060640"/>
          <a:ext cx="9144000" cy="3887640"/>
        </p:xfrm>
        <a:graphic>
          <a:graphicData uri="http://schemas.openxmlformats.org/drawingml/2006/table">
            <a:tbl>
              <a:tblPr/>
              <a:tblGrid>
                <a:gridCol w="1557360"/>
                <a:gridCol w="1100160"/>
                <a:gridCol w="1278000"/>
                <a:gridCol w="1278000"/>
                <a:gridCol w="1096920"/>
                <a:gridCol w="1458720"/>
                <a:gridCol w="1374840"/>
              </a:tblGrid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5=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2=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9=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=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921440" cy="100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830F-3C79-4129-AB31-2195181F2B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3000"/>
            <a:ext cx="9144000" cy="67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 u="sng">
                <a:solidFill>
                  <a:srgbClr val="ff3300"/>
                </a:solidFill>
                <a:uFillTx/>
                <a:latin typeface="Times New Roman"/>
              </a:rPr>
              <a:t>Шаг3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десь выделяем столбец из А и ячейка с минимальной разностью, равной 1.  Курсивом выделены минимальные эле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енты строк из А', из которых мы вычи-тали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Если имеется несколько одинаковых минимальных разностей, можно брать любую из них, но желательно ту, которая наиболее выгодна для наделения каждого из столбцов одним подчеркнутым элементом. Напомним, что на данном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тапе  А'={1,3,4,5}. А={2}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EE67-9CDB-4834-9CD6-B6D8F36F65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520"/>
            <a:ext cx="9144000" cy="67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Шаг4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Добавим полученную мини-мальную разность «1» ко всем элементам 2-го столбца (выделенного А)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Все подчеркивания в таблице сохраня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Шаг 5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новой таблице тот элемент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 А',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из которого мы вычитали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и получили минимальную разность, отметим 3-мя точками внизу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(в дальнейшем будет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два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тип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подчеркнутых элементов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 обычным подчеркиванием и «подчеркнутые     тремя       точками»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0DD3-0E3D-4D87-ADE2-0E6CD0C65C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116000" y="1341360"/>
          <a:ext cx="7056360" cy="3500640"/>
        </p:xfrm>
        <a:graphic>
          <a:graphicData uri="http://schemas.openxmlformats.org/drawingml/2006/table">
            <a:tbl>
              <a:tblPr/>
              <a:tblGrid>
                <a:gridCol w="1521000"/>
                <a:gridCol w="1579320"/>
                <a:gridCol w="1316160"/>
                <a:gridCol w="1320840"/>
                <a:gridCol w="13190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FF39-9716-48D1-A481-DEBE88D197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60280"/>
            <a:ext cx="914400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Шаг6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толбец, содержащий элемент с тремя точками, обозначим С. Возможны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дв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ситуа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           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столбец С не содержит других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              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подчеркнутых элементов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огда подчеркнем элемент с тремя точка-ми полностью, уберем при этом другое подчеркивание в одной строке с ним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Это новый элемент, вошедший в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бази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вместо "старого".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Затем переходим к шагу 7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E08B-EB1F-4906-9475-EC212D9970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30600"/>
            <a:ext cx="914400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Times New Roman"/>
              </a:rPr>
              <a:t>           </a:t>
            </a:r>
            <a:r>
              <a:rPr b="1" i="1" lang="ru-RU" sz="4000" spc="-1" strike="noStrike">
                <a:solidFill>
                  <a:srgbClr val="ff3300"/>
                </a:solidFill>
                <a:latin typeface="Times New Roman"/>
              </a:rPr>
              <a:t>столбец С  содержит еще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Times New Roman"/>
              </a:rPr>
              <a:t>           </a:t>
            </a:r>
            <a:r>
              <a:rPr b="1" i="1" lang="ru-RU" sz="4000" spc="-1" strike="noStrike">
                <a:solidFill>
                  <a:srgbClr val="ff3300"/>
                </a:solidFill>
                <a:latin typeface="Times New Roman"/>
              </a:rPr>
              <a:t>подчеркнутые элементы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ереводим этот столбец  в множество А (оно будет теперь состоять из двух  столб-цов – это затененные столбцы), "забы-ваем" про три точки  и возвращаемся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к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шагу 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нашем случае столбец С содержит только элемент, подчеркнутый тремя точ-ками. Подчеркнем число "3"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олностью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в столбце С и удалим (при помощи «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») подчеркивание числа "3" в 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134B-F0DE-4037-B4BE-B0333295A6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-60480"/>
            <a:ext cx="91440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нятно, что подчеркиваний не должно быть больше, чем работников или заданий, т.е.  не должно быть больше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Перейдем к шагу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6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258920" y="2924280"/>
          <a:ext cx="6553080" cy="3714480"/>
        </p:xfrm>
        <a:graphic>
          <a:graphicData uri="http://schemas.openxmlformats.org/drawingml/2006/table">
            <a:tbl>
              <a:tblPr/>
              <a:tblGrid>
                <a:gridCol w="1436760"/>
                <a:gridCol w="1252440"/>
                <a:gridCol w="1189080"/>
                <a:gridCol w="1485720"/>
                <a:gridCol w="1189080"/>
              </a:tblGrid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F3AE-BAC4-47F0-BCFC-3E5133C25F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8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°</a:t>
            </a:r>
            <a:r>
              <a:rPr b="0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Задача о назначениях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усть есть 5 человек: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,М2,…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, спо-собных выполнить 5 заданий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,Т2,…,Т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силу разной подготовки и иных при-чин эффективность функционирования каждого на каждой из должностей различ-на и может быть определена (хотя бы в долях единицы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 следует распределить людей по ра-ботам, чтобы суммарная эффективность функционирования системы была наи-большей?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86F3-95C4-4C01-B20D-2BB80B614D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-360"/>
            <a:ext cx="91440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00"/>
                </a:solidFill>
                <a:uFillTx/>
                <a:latin typeface="Times New Roman"/>
              </a:rPr>
              <a:t>Шаг7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Видим, не каждый столбец содержит по одному подчеркнутому элементу: в 4-м и 5-м столбцах их нет, во 2-м - целых 3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ледовательно, мы не нашли оптимум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озвращаемся к шагу 1 и начинаем новую итерац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Множество А становится пустым, снова выбираем столбец для А (см. выделение в таблице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13C0-F8D0-480E-9A09-6B6852F1EF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0" y="0"/>
          <a:ext cx="9144000" cy="3198960"/>
        </p:xfrm>
        <a:graphic>
          <a:graphicData uri="http://schemas.openxmlformats.org/drawingml/2006/table">
            <a:tbl>
              <a:tblPr/>
              <a:tblGrid>
                <a:gridCol w="1979640"/>
                <a:gridCol w="1008000"/>
                <a:gridCol w="1152720"/>
                <a:gridCol w="1223640"/>
                <a:gridCol w="1152720"/>
                <a:gridCol w="1150920"/>
                <a:gridCol w="147636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6=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=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7=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1234080" y="3212640"/>
            <a:ext cx="403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А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532680"/>
            <a:ext cx="91440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Здесь сначала выделили вновь второй столбец как содержащий наибольшее ко-личесво подчеркиваний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обавляем «2» к выделенному столбцу и в новой таблице  подчеркиваем «12» в третьем столбце чет-вертой строки тремя точками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5A5B-54B7-4A9F-8F62-5DCB2871BE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908000" y="189000"/>
          <a:ext cx="5761080" cy="3457440"/>
        </p:xfrm>
        <a:graphic>
          <a:graphicData uri="http://schemas.openxmlformats.org/drawingml/2006/table">
            <a:tbl>
              <a:tblPr/>
              <a:tblGrid>
                <a:gridCol w="1081440"/>
                <a:gridCol w="1150920"/>
                <a:gridCol w="1296720"/>
                <a:gridCol w="1224000"/>
                <a:gridCol w="1008000"/>
              </a:tblGrid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0" y="38026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ак как в столбце С (в третьем столбце) есть еще подчеркнутый элемент «6», то удаляем три точки, переводим столбец С в множество А (т.е. выделяем его) и возвра-щаемся к шагу 4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7F6C-CB28-4D59-BAAF-D692C8D706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189000"/>
          <a:ext cx="9144000" cy="4968720"/>
        </p:xfrm>
        <a:graphic>
          <a:graphicData uri="http://schemas.openxmlformats.org/drawingml/2006/table">
            <a:tbl>
              <a:tblPr/>
              <a:tblGrid>
                <a:gridCol w="1984320"/>
                <a:gridCol w="1100160"/>
                <a:gridCol w="1322280"/>
                <a:gridCol w="1175040"/>
                <a:gridCol w="1028520"/>
                <a:gridCol w="1027080"/>
                <a:gridCol w="1506600"/>
              </a:tblGrid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8=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4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6=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4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=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4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9=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4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1092960" y="5228640"/>
            <a:ext cx="43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А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92EF-0D98-4374-9758-14411CF57F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величиваем оба столбца (выделен-ные </a:t>
            </a: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второй и третий) множества А на «1» и «10» в пятой строке и пятом столбце подчеркиваем тремя точкам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39640" y="2276640"/>
          <a:ext cx="7993080" cy="4392360"/>
        </p:xfrm>
        <a:graphic>
          <a:graphicData uri="http://schemas.openxmlformats.org/drawingml/2006/table">
            <a:tbl>
              <a:tblPr/>
              <a:tblGrid>
                <a:gridCol w="1382760"/>
                <a:gridCol w="1689120"/>
                <a:gridCol w="1690560"/>
                <a:gridCol w="1371600"/>
                <a:gridCol w="1859040"/>
              </a:tblGrid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DD41-E3A1-41C7-9D67-EDFC730059C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7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дчеркиваем «10» полностью, удаляем подчеркивание «10» во 2-м столбце. Теперь только в 4-м столбце нет подчеркнутого элемента. Считаем А пустым и начинаем новую итерацию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0" y="2924280"/>
          <a:ext cx="9144000" cy="3592440"/>
        </p:xfrm>
        <a:graphic>
          <a:graphicData uri="http://schemas.openxmlformats.org/drawingml/2006/table">
            <a:tbl>
              <a:tblPr/>
              <a:tblGrid>
                <a:gridCol w="1684440"/>
                <a:gridCol w="1601640"/>
                <a:gridCol w="1023840"/>
                <a:gridCol w="1347840"/>
                <a:gridCol w="857520"/>
                <a:gridCol w="1352520"/>
                <a:gridCol w="127620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9=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=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787D-D5DC-4B75-B241-3CE3B1700C8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0" y="0"/>
          <a:ext cx="8964720" cy="3198960"/>
        </p:xfrm>
        <a:graphic>
          <a:graphicData uri="http://schemas.openxmlformats.org/drawingml/2006/table">
            <a:tbl>
              <a:tblPr/>
              <a:tblGrid>
                <a:gridCol w="1835280"/>
                <a:gridCol w="1081080"/>
                <a:gridCol w="1150920"/>
                <a:gridCol w="1216080"/>
                <a:gridCol w="1077840"/>
                <a:gridCol w="1163520"/>
                <a:gridCol w="144000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9=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7=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3=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0" y="3500280"/>
          <a:ext cx="9144000" cy="3224520"/>
        </p:xfrm>
        <a:graphic>
          <a:graphicData uri="http://schemas.openxmlformats.org/drawingml/2006/table">
            <a:tbl>
              <a:tblPr/>
              <a:tblGrid>
                <a:gridCol w="1835280"/>
                <a:gridCol w="1008000"/>
                <a:gridCol w="1224000"/>
                <a:gridCol w="1225440"/>
                <a:gridCol w="1079640"/>
                <a:gridCol w="1152360"/>
                <a:gridCol w="161928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10=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8=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3=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=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0" y="3500280"/>
          <a:ext cx="9144000" cy="3224520"/>
        </p:xfrm>
        <a:graphic>
          <a:graphicData uri="http://schemas.openxmlformats.org/drawingml/2006/table">
            <a:tbl>
              <a:tblPr/>
              <a:tblGrid>
                <a:gridCol w="1835280"/>
                <a:gridCol w="1008000"/>
                <a:gridCol w="1224000"/>
                <a:gridCol w="1225440"/>
                <a:gridCol w="1079640"/>
                <a:gridCol w="1152360"/>
                <a:gridCol w="161928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10=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8=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3=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=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0" y="3500280"/>
          <a:ext cx="9144000" cy="3224520"/>
        </p:xfrm>
        <a:graphic>
          <a:graphicData uri="http://schemas.openxmlformats.org/drawingml/2006/table">
            <a:tbl>
              <a:tblPr/>
              <a:tblGrid>
                <a:gridCol w="1835280"/>
                <a:gridCol w="1081080"/>
                <a:gridCol w="1150920"/>
                <a:gridCol w="1225440"/>
                <a:gridCol w="1079640"/>
                <a:gridCol w="1152360"/>
                <a:gridCol w="161928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10=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8=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3=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=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AC2F-AA81-4FE6-A715-818202F0867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0" y="189000"/>
          <a:ext cx="9144000" cy="3224160"/>
        </p:xfrm>
        <a:graphic>
          <a:graphicData uri="http://schemas.openxmlformats.org/drawingml/2006/table">
            <a:tbl>
              <a:tblPr/>
              <a:tblGrid>
                <a:gridCol w="1835280"/>
                <a:gridCol w="1008000"/>
                <a:gridCol w="1224000"/>
                <a:gridCol w="1225440"/>
                <a:gridCol w="1079640"/>
                <a:gridCol w="1152360"/>
                <a:gridCol w="1619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−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−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</a:t>
                      </a: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0" y="3716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меем 2 одинаковые минимальные разности, равные 0. Выберем ту, которая «поможет заполнить» подчеркнутым элементом 4-й столбе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DC62-8912-4E38-83DA-A958E282516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971640" y="189000"/>
          <a:ext cx="7273800" cy="3493800"/>
        </p:xfrm>
        <a:graphic>
          <a:graphicData uri="http://schemas.openxmlformats.org/drawingml/2006/table">
            <a:tbl>
              <a:tblPr/>
              <a:tblGrid>
                <a:gridCol w="1615680"/>
                <a:gridCol w="1462320"/>
                <a:gridCol w="1463400"/>
                <a:gridCol w="1254240"/>
                <a:gridCol w="1478160"/>
              </a:tblGrid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0" y="37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толбец 4 не содержит подчеркнутых элементов, так что полностью подчерки-ваем элемент 4 в строке 3 столбца 4 и сняв подчеркивание 4 в строке 3 столбца 1, пе-реходим к «началу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52EA-3CE3-4E33-944A-B441755EF73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-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толбец 2 содержит два подчеркнутых элемента, выделяем ег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826920" y="2060640"/>
          <a:ext cx="7490160" cy="3975120"/>
        </p:xfrm>
        <a:graphic>
          <a:graphicData uri="http://schemas.openxmlformats.org/drawingml/2006/table">
            <a:tbl>
              <a:tblPr/>
              <a:tblGrid>
                <a:gridCol w="2092320"/>
                <a:gridCol w="1175040"/>
                <a:gridCol w="871560"/>
                <a:gridCol w="1303200"/>
                <a:gridCol w="1063800"/>
                <a:gridCol w="984240"/>
              </a:tblGrid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9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−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−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−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57E1-5A0B-4AD0-9308-C16B5814145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9152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ля решения задачи методом Мака сос-тавляется матрица: пусть по горизонтали указаны номера работников организации, по вертикали - номера заданий, соответ-ствующих разным должностям. Таблицу заполним значениями времени выполне-ния заданий. Будем искать минимальное суммарное время выполнения всех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=5 задани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ля примера возьмем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кретную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атрицу 5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EA53-F5DD-4545-B67B-1620C9349C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306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дчеркиваем полностью число «11» в первом столбце первой строки, убираем (при помощи «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)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дчеркивание во втором столбце этой строки и  получаем оптимальное решени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8464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!!!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Теперь нужно записать ответ к решен-ной задаче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ля этого на </a:t>
            </a:r>
            <a:r>
              <a:rPr b="1" lang="ru-RU" sz="3600" spc="-1" strike="noStrike" u="sng">
                <a:solidFill>
                  <a:srgbClr val="ff3300"/>
                </a:solidFill>
                <a:uFillTx/>
                <a:latin typeface="Times New Roman"/>
              </a:rPr>
              <a:t>исходную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матри-цу «наносим» в соответствующих местах подчеркивания оптимального расположе-ния элемент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06E1-BCDB-4E29-9300-AC66E62039A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0" y="0"/>
          <a:ext cx="9143640" cy="3838320"/>
        </p:xfrm>
        <a:graphic>
          <a:graphicData uri="http://schemas.openxmlformats.org/drawingml/2006/table">
            <a:tbl>
              <a:tblPr/>
              <a:tblGrid>
                <a:gridCol w="1617480"/>
                <a:gridCol w="1609560"/>
                <a:gridCol w="1606320"/>
                <a:gridCol w="1605960"/>
                <a:gridCol w="1345320"/>
                <a:gridCol w="1359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0" y="41490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ложим все подчеркнутые элемен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Times New Roman"/>
              </a:rPr>
              <a:t>Т(минимальное время выполнения            всех заданий) = 10+9+6+4+10 = 39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FF50-5EA5-4C33-83F5-F17C35D6191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8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АЛГОРИТМ   МЕТОДА   МА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0.    Помечаем минимальный элемент каж-дой строки отметкой «_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Если минимальных элементов в стро-ке несколько, помечаем любой из ни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ействия п. 0 повторяем для всех строк  матрицы расход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ыберем из А' столбец, содержащий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аибольшее количество подчеркнутых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элементов, и переведем его в 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680C-4AD9-4377-B091-D26914AED06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66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ействия п.1 проводим до тех пор, пока имеем столбцы, содержащие больше одного подчеркивания (минимального элемента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Если каждый столбец имеет по одному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дчеркнутому элементу </a:t>
            </a: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тогда задача о назначениях решена; переходим к  п. 8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.   Найдем разности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инимальный элемент множества А' для строки минус подчеркнутый элемент из множества А той же строки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E9B9-7DC8-4BFE-8333-C65F74BCA99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6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.  Найдем минимальное значение  этих разносте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.  Добавим полученную минимальную разность  ко всем элементам  столбца (столбцов) из А. Все подчеркивания в таблице сохраняе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новой таблице тот элемент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 А',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 которого мы вычитали и получили мини-мальную разность, отметим 3-мя точками внизу.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Возможные случа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E2FE-12A2-466C-9DC8-7262820A111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413000"/>
            <a:ext cx="914400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0" bIns="46800" anchor="t">
            <a:spAutoFit/>
          </a:bodyPr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толбец, где мы проставили три точки, </a:t>
            </a: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не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имеет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пока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дчеркнутых элементов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толбец, где мы проставили три точки, </a:t>
            </a: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имеет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еще по крайней мере один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подчерк-нутый элемен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C59B-106E-4731-8994-22BA90ED223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случа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) помечаем этот элемент отметкой «_» (полное подчеркивание)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ругое подчеркивание в этой строке снимаем энаком «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переходим к  п. 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7.   В случае ii) добавляем этот столбец 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ислу «затененных» (в множество А) и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озвращаемся к  п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8.    На </a:t>
            </a:r>
            <a:r>
              <a:rPr b="1" lang="ru-RU" sz="3600" spc="-1" strike="noStrike" u="sng">
                <a:solidFill>
                  <a:srgbClr val="ff3300"/>
                </a:solidFill>
                <a:uFillTx/>
                <a:latin typeface="Times New Roman"/>
              </a:rPr>
              <a:t>исходную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матрицу «наносим»  под-черкивания оптимального расположе-ния элементов и складываем и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94E8-D81A-4CD9-920C-B7DDB5A9F02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8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 u="sng">
                <a:solidFill>
                  <a:srgbClr val="ff3300"/>
                </a:solidFill>
                <a:uFillTx/>
                <a:latin typeface="Times New Roman"/>
              </a:rPr>
              <a:t>Задача о назначениях и планирование</a:t>
            </a:r>
            <a:br>
              <a:rPr sz="3600"/>
            </a:b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r>
              <a:rPr b="1" lang="ru-RU" sz="3600" spc="-1" strike="noStrike" u="sng">
                <a:solidFill>
                  <a:srgbClr val="ff3300"/>
                </a:solidFill>
                <a:uFillTx/>
                <a:latin typeface="Times New Roman"/>
              </a:rPr>
              <a:t>работы ж/д транспорт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 планировании работы железнодо-рожного транспорта часто приходится ре-шать задачи о назначениях -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дачи при-крепления локомотивов к составам поез-дов, планирование работы локомотивных бригад и т. д. В задаче о назначениях необ-ходимо распределить исполнителей на определенные работы; каждый исполни-тель может выполнять любую работу, но с различной степенью мастерств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633E-184A-4016-93BA-7D1CE1662D8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40053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Цел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задачи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найти оптимальное (минимальное по критерию стоимости) распределение исполнителей по всем заявленным работам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1592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Если на некоторую работу назначается исполнитель именно той квалификации, которая необходима для ее выполнения, тогда стоимость ее выполнения будет ни-же, чем в случае назначения на данную ра-боту исполнителя неподходящей квалифи-к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52B1-C9A5-4C8E-B6E1-AFCD1380174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9152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сходная матрица для решения задачи назначения  </a:t>
            </a: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исполнителей на  </a:t>
            </a: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n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рабо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) представлена в таблице, гд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̶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стоимость назначения исполнителя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на работу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 планировании прикрепления локо-мотивов к составам поездов эта величина может быть принята равной сумме экс-плуатационных расходов, связанных с перевозкой поезда соответствующим локо-мотиво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3B0C-CB66-4816-8674-BDFA6043E24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93720" y="475560"/>
            <a:ext cx="230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р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95280" y="1628640"/>
          <a:ext cx="8353440" cy="3990960"/>
        </p:xfrm>
        <a:graphic>
          <a:graphicData uri="http://schemas.openxmlformats.org/drawingml/2006/table">
            <a:tbl>
              <a:tblPr/>
              <a:tblGrid>
                <a:gridCol w="1392120"/>
                <a:gridCol w="1392480"/>
                <a:gridCol w="1392120"/>
                <a:gridCol w="1392120"/>
                <a:gridCol w="1392480"/>
                <a:gridCol w="139212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ru-RU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ru-RU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en-US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en-US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en-US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en-US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en-US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en-US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ru-RU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ru-RU" sz="3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15C3-9E39-48E7-9A42-E50E7F9D23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1592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Критерием оптимальност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планирова-ния при этом являются эксплуатационные затраты локомотивного хозяйства на пе-ревозку заданного числа составов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нят-но,что их надо свести к минимум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 планировании работы локомотив-ных бригад следует минимизировать  сум-марное время непроизводительного ожи-дания бригадами готовности составов или локомотивов: здес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ij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должительнос-ти непроизводительного простоя бригады </a:t>
            </a: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при назначении ее в поездку </a:t>
            </a: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j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DBF3-DAF2-42E3-B45B-CB19CA0D22C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36612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Если по каким-либо технологическим ограничениям локомотив не может быть подан под состав (например, вследствие несоответствия его тяговых характерис-тик массе поезда) или бригада не может быть назначена в поездку (например, из-за того, что нормативное время ее отдыха еще не истекло и т. д.), то стоимости при-сваивают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запрещающее значени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которое исключит попадание такой пары «испол-нитель - работа» в итоговое решени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63A9-AFBF-43D8-9960-D72E913D611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901800"/>
                <a:gridCol w="1041480"/>
                <a:gridCol w="1492200"/>
                <a:gridCol w="1244520"/>
                <a:gridCol w="1187280"/>
                <a:gridCol w="1851120"/>
                <a:gridCol w="1425600"/>
              </a:tblGrid>
              <a:tr h="87300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 а б л и ц а 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1560">
                <a:tc rowSpan="7"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с п о л н и т е л и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f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e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e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e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e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e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e1ff"/>
                    </a:solidFill>
                  </a:tcPr>
                </a:tc>
              </a:tr>
              <a:tr h="78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en-US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en-US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 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en-US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 </a:t>
                      </a:r>
                      <a:r>
                        <a:rPr b="1" i="1" lang="en-US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en-US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 </a:t>
                      </a:r>
                      <a:r>
                        <a:rPr b="1" i="1" lang="en-US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0ff"/>
                    </a:solidFill>
                  </a:tcPr>
                </a:tc>
              </a:tr>
              <a:tr h="78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e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en-US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e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en-US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 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e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e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en-US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 </a:t>
                      </a:r>
                      <a:r>
                        <a:rPr b="1" i="1" lang="en-US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e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en-US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 </a:t>
                      </a:r>
                      <a:r>
                        <a:rPr b="1" i="1" lang="en-US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e1ff"/>
                    </a:solidFill>
                  </a:tcPr>
                </a:tc>
              </a:tr>
              <a:tr h="83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0ff"/>
                    </a:solidFill>
                  </a:tcPr>
                </a:tc>
              </a:tr>
              <a:tr h="94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e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-1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e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i="1" lang="ru-RU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ru-RU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e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e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-1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e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-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e1ff"/>
                    </a:solidFill>
                  </a:tcPr>
                </a:tc>
              </a:tr>
              <a:tr h="96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–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e0ff"/>
                    </a:solid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0" y="836640"/>
            <a:ext cx="9000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DC0E-0723-4965-98D5-434C612D904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1844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ля нахождения решения задачи о назначениях существующими методами требуется, чтобы матрица стоимостей была квадратной, то есть </a:t>
            </a: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количеств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исполнителей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олжно быть равно </a:t>
            </a: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количеству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работ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о это не является серьезным ограни-чением, так как при неравенстве количества исполнителей количеству работ в модель вводятся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фиктивны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исполнител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фиктивные работ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ACF0-361A-4C6D-8F40-E3376DE7AAF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1592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менительно к планированию работы локомотивных бригад в качестве исполни-телей можно рассматривать бригады, а в качестве работ — поезд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случае планирования прикрепления локомотивов исполнителями выступают локомотивы, а работами — составы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дача о назначениях является частным случаем транспортной задачи, в которой исполнители тождественны пунктам от-правления, а работы — пунктам назначе-ния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002C-B9C4-4AE4-AD7E-72D2E577ECD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8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 этом все величины спроса и пред-ложения равны 1, а стоимость «транспор-тировки» исполнителя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на работу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соот-ветствует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казанные условия позволяют решать задачу о назначениях теми же методами, что и транспортную. Однако, все величи-ны спроса и предложения в задаче о назна-чениях принимаются равными 1, что поз-воляет использовать более эффективный метод — метод Мака; к реализации на  ЭВМ он более адаптирова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EA09-A4E3-4978-99DA-4AFBBD85739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28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едполагается начальное составление матрицы стоимостей, затем выделение ми-нимального элемента в каждой строке. Ес-ли в каждом столбце имеется ровно по од-ному такому элементу, то они как базис определяют оптимальный выбор. В про-тивном случае выполняются следующие действия: множество столбцов разделяет-ся на два подмножества —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'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, где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— множество столбцов, содержащих более одного выделенного элемента,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A'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  — мно-жество, содержащее остальные столбцы. 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A7CF-1019-4278-A833-66AFC05FD5D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79280" y="34297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Шаг0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Вначале и при последующих воз-вращениях к нулевому шагу алгоритма множество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пусто, а множество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A'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содер-жит все столбцы. Далее реализуются следующие шаги реш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CE1C-0A9E-48CA-868F-8A345B95285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6480"/>
            <a:ext cx="914400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Шаг1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рать из множества A' столбец, содержащий более одного минимального элемента. Перевести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ег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A' в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Шаг2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менной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авить в соответ-ствие минимальный элемент множества A из строки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минимальный элемент мно-жества A' из строки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авить в соответ-ствие переменной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ru-RU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й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522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Шаг3.</a:t>
            </a: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ь все элементы множест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41c2f034" descr=""/>
          <p:cNvPicPr/>
          <p:nvPr/>
        </p:nvPicPr>
        <p:blipFill>
          <a:blip r:embed="rId1"/>
          <a:stretch/>
        </p:blipFill>
        <p:spPr>
          <a:xfrm>
            <a:off x="1835280" y="4653000"/>
            <a:ext cx="3635280" cy="536400"/>
          </a:xfrm>
          <a:prstGeom prst="rect">
            <a:avLst/>
          </a:prstGeom>
          <a:ln w="0">
            <a:noFill/>
          </a:ln>
        </p:spPr>
      </p:pic>
      <p:pic>
        <p:nvPicPr>
          <p:cNvPr id="121" name="41c2f035" descr=""/>
          <p:cNvPicPr/>
          <p:nvPr/>
        </p:nvPicPr>
        <p:blipFill>
          <a:blip r:embed="rId2"/>
          <a:stretch/>
        </p:blipFill>
        <p:spPr>
          <a:xfrm>
            <a:off x="1908000" y="5877000"/>
            <a:ext cx="1295640" cy="441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932360" y="6248520"/>
            <a:ext cx="48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6087-A8A9-4547-928E-9C55D8C4C57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206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Шаг</a:t>
            </a:r>
            <a:r>
              <a:rPr b="1" i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5.</a:t>
            </a: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менная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соответствует стол-бцу, содержащему 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Шаг4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тметить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 столбца мно-жества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'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троке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было получе-н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)  как кандидата на выделение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41c2f037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884160" cy="505080"/>
          </a:xfrm>
          <a:prstGeom prst="rect">
            <a:avLst/>
          </a:prstGeom>
          <a:ln w="0">
            <a:noFill/>
          </a:ln>
        </p:spPr>
      </p:pic>
      <p:pic>
        <p:nvPicPr>
          <p:cNvPr id="126" name="41c2f038" descr=""/>
          <p:cNvPicPr/>
          <p:nvPr/>
        </p:nvPicPr>
        <p:blipFill>
          <a:blip r:embed="rId2"/>
          <a:stretch/>
        </p:blipFill>
        <p:spPr>
          <a:xfrm>
            <a:off x="4067280" y="278136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33580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держит более двух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дчеркну-тых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ов, перевести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множества A' в множество A и перейти к шагу 2. В противном случае перейти к следующему шаг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71CD-AA00-4C67-A0A5-0714E56372E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63520"/>
            <a:ext cx="9144000" cy="66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частие или неучастие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о человека в выполнении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о задания. Тогда должны выполняться следующие ограничения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ru-RU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ru-RU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 +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ru-RU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ru-RU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ru-RU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 +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ru-RU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………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ru-RU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ru-RU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 +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ru-RU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Каждый  работник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выполняет лишь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одну работу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92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12000" y="2997360"/>
            <a:ext cx="365040" cy="2376360"/>
          </a:xfrm>
          <a:custGeom>
            <a:avLst/>
            <a:gdLst>
              <a:gd name="textAreaLeft" fmla="*/ 0 w 365040"/>
              <a:gd name="textAreaRight" fmla="*/ 131760 w 36504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2739-532C-4B54-81A3-497524E4E0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3420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Шаг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7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Найти исходный минимальный элемент в той же строке, что и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убрать его подчеркивание. Обозначить столбец, в котором находится этот элемент, через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Шаг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6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Выделить последний найденный элемент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как минимальный элемент строки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41c2f039" descr=""/>
          <p:cNvPicPr/>
          <p:nvPr/>
        </p:nvPicPr>
        <p:blipFill>
          <a:blip r:embed="rId1"/>
          <a:stretch/>
        </p:blipFill>
        <p:spPr>
          <a:xfrm>
            <a:off x="1979640" y="692280"/>
            <a:ext cx="345960" cy="431640"/>
          </a:xfrm>
          <a:prstGeom prst="rect">
            <a:avLst/>
          </a:prstGeom>
          <a:ln w="0">
            <a:noFill/>
          </a:ln>
        </p:spPr>
      </p:pic>
      <p:pic>
        <p:nvPicPr>
          <p:cNvPr id="131" name="41c2f03a" descr=""/>
          <p:cNvPicPr/>
          <p:nvPr/>
        </p:nvPicPr>
        <p:blipFill>
          <a:blip r:embed="rId2"/>
          <a:stretch/>
        </p:blipFill>
        <p:spPr>
          <a:xfrm>
            <a:off x="6948360" y="2276640"/>
            <a:ext cx="405000" cy="504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37900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Шаг8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ли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содержит других выделенных элементов, то эта переменная должна содержать элемент, отмеченный в качестве кандидата на выделение. Обозначить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ег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41c2f03b" descr=""/>
          <p:cNvPicPr/>
          <p:nvPr/>
        </p:nvPicPr>
        <p:blipFill>
          <a:blip r:embed="rId3"/>
          <a:stretch/>
        </p:blipFill>
        <p:spPr>
          <a:xfrm>
            <a:off x="3492360" y="6093000"/>
            <a:ext cx="405000" cy="504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42640" y="6021000"/>
            <a:ext cx="51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и вернуться к шагу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F6E0-8ACB-45BB-B092-D5C12D6D2D4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911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Шаг9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Если остался еще столбец без выде-ленных минимальных элементов, вер-нуться к шагу 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Если в каждом столбце имеется выде-ленный минимальный элемент, работа алгоритма закончена. Выделенные мини-мальные элементы соответствуют опти-мальному варианту назначений исполни-телей на работ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D991-7BA3-46BC-98C9-D32B4B687F5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44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реальных условиях планирования ра-боты локомотивов и локомотивных бри-гад (расчеты для матриц размерностью от 5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0 до 15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50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позволяют сократить время отклика, что важно для оператив-ных работников: локомотивного диспет-чера, дежурного по локомотивному депо, нарядчика и т. д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4BEE-ADFB-48CE-8B89-2827AB15774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71640" y="24120"/>
            <a:ext cx="7632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ru-RU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ru-RU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 +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ru-RU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ru-RU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ru-RU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 +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ru-RU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………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x</a:t>
            </a:r>
            <a:r>
              <a:rPr b="1" i="1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 + x</a:t>
            </a:r>
            <a:r>
              <a:rPr b="1" i="1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6000" y="260280"/>
            <a:ext cx="365040" cy="2376720"/>
          </a:xfrm>
          <a:custGeom>
            <a:avLst/>
            <a:gdLst>
              <a:gd name="textAreaLeft" fmla="*/ 0 w 365040"/>
              <a:gd name="textAreaRight" fmla="*/ 131760 w 36504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0621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На каждую работу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может быть наз-начен лишь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один челове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4474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и этих ограничениях минимизи-руем общее время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n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 …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54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55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4313-9BF9-4E17-BD94-16B3C211F3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-3052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Алгоритм решения транспортной задачи неэффективен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числен-ном оптимальном решении будут 5 единиц, а остальные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нули, то есть решение «типа»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826920" y="3213000"/>
          <a:ext cx="7648200" cy="3455640"/>
        </p:xfrm>
        <a:graphic>
          <a:graphicData uri="http://schemas.openxmlformats.org/drawingml/2006/table">
            <a:tbl>
              <a:tblPr/>
              <a:tblGrid>
                <a:gridCol w="1525680"/>
                <a:gridCol w="1531080"/>
                <a:gridCol w="1530000"/>
                <a:gridCol w="1531080"/>
                <a:gridCol w="1530360"/>
              </a:tblGrid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80F6-E912-4D79-A427-B9E45D1851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720"/>
            <a:ext cx="9144000" cy="65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Это означает, что следует выбрать по одному числу в каждом столбце и каждой строке, причём так, чтобы их сумма была минимальн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редложено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дв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метода направлен-ного метода поиска наилучшего реше-ния.  Оба основаны на том факте, что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положения оптимального выбора не меняются, если к каждому элементу некоторой строки или столбца доба-вить  (вычесть) одно и тоже число»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A298-696E-4D7C-BAD2-5840D6A088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1680"/>
            <a:ext cx="91440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етод Мака основан на простой идее выбора в каждой строке мини-мального элемента. Вообще говоря, минимальные элементы строк не рас-пределены по столбцам матрицы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спользована идея сложения (вычитания) одного и того же значения со всеми элементами строки или столбца, чтобы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распределить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минимальные элементы строк по столбцам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488D-627E-4F5B-8450-DD6BE20CD4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23:16:59Z</dcterms:created>
  <dc:creator>МУРАВЬЕВ ВИКТОР</dc:creator>
  <dc:description/>
  <dc:language>en-US</dc:language>
  <cp:lastModifiedBy>Муравьев</cp:lastModifiedBy>
  <dcterms:modified xsi:type="dcterms:W3CDTF">2013-01-25T08:57:28Z</dcterms:modified>
  <cp:revision>26</cp:revision>
  <dc:subject/>
  <dc:title>Слайд 1</dc:title>
</cp:coreProperties>
</file>